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03466-F5D6-4DCF-99F6-0822F13A7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267E1-FF9B-456E-9B04-3C671EE41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9D7B1-3ED9-490A-ABA3-FC74846E9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DA2A6-BF47-442F-B16B-C74A4B6BC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659B8-88E4-49DC-8808-9036FAAB0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F63FD-788F-4C6B-923C-128B905E9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D7B6E-AFDF-454A-8C33-B9DDD1C33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41C77-97FA-48A3-B6AD-3D67659BA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72A75-6D36-4A73-AA2F-E7A7CBA31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F4EB8-265D-4455-B4ED-8D84F454B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A4504-318B-4296-A59D-E5889E6C8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38EED-79A3-493A-805D-58C416ACE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E484B-FF7C-4BDB-AD9A-523864B75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ACF30-FD98-4A85-9AD3-0D7A7DF8F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5D716-FA17-4D32-BC63-834100214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2AC9C-60B8-4A76-A30F-2592F373F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421E6-D69A-40A0-9CDF-8246BA38F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DAF4D-2270-42DF-B763-6AD5A9436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38102-322F-4372-83EA-457A476BE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43E17-C51A-4C2B-AD93-224D1E3B4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58396-E154-4F86-A2B0-F9FE766EA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1EFC8-5369-499C-8D5A-8A5F24CA8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8BCE3-3405-4F81-BFF6-4B7B2D4E0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E285D-388A-48BE-8B26-BBE7B4F88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e7f3ff"/>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d1e8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d1e8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d1e8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d1e8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54C6-2979-4315-8C08-8E001BCC83B1}" type="slidenum">
              <a:rPr b="0" lang="ro-R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e7f3ff"/>
            </a:gs>
          </a:gsLst>
          <a:lin ang="5400000"/>
        </a:gra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d1e8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d1e8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d1e8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d1e8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13C2-41EB-41DB-A291-D80BF5206166}" type="slidenum">
              <a:rPr b="0" lang="ro-RO"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900000" y="981000"/>
            <a:ext cx="763272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0000"/>
                </a:solidFill>
                <a:latin typeface="Arial Black"/>
              </a:rPr>
              <a:t>Diagrama KWL</a:t>
            </a:r>
            <a:endParaRPr b="0" lang="en-US" sz="4000" spc="-1" strike="noStrike">
              <a:solidFill>
                <a:srgbClr val="000000"/>
              </a:solidFill>
              <a:latin typeface="Tahoma"/>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0000"/>
                </a:solidFill>
                <a:latin typeface="Arial Black"/>
              </a:rPr>
              <a:t>(</a:t>
            </a:r>
            <a:r>
              <a:rPr b="1" i="1" lang="en-US" sz="4000" spc="-1" strike="noStrike">
                <a:solidFill>
                  <a:srgbClr val="ff0000"/>
                </a:solidFill>
                <a:latin typeface="Arial Black"/>
              </a:rPr>
              <a:t>Know</a:t>
            </a:r>
            <a:r>
              <a:rPr b="0" lang="ro-RO" sz="4000" spc="-1" strike="noStrike">
                <a:solidFill>
                  <a:srgbClr val="ff0000"/>
                </a:solidFill>
                <a:latin typeface="Arial Black"/>
              </a:rPr>
              <a:t>/</a:t>
            </a:r>
            <a:r>
              <a:rPr b="1" i="1" lang="en-US" sz="4000" spc="-1" strike="noStrike">
                <a:solidFill>
                  <a:srgbClr val="ff0000"/>
                </a:solidFill>
                <a:latin typeface="Arial Black"/>
              </a:rPr>
              <a:t>Wonder</a:t>
            </a:r>
            <a:r>
              <a:rPr b="0" lang="ro-RO" sz="4000" spc="-1" strike="noStrike">
                <a:solidFill>
                  <a:srgbClr val="ff0000"/>
                </a:solidFill>
                <a:latin typeface="Arial Black"/>
              </a:rPr>
              <a:t>/</a:t>
            </a:r>
            <a:r>
              <a:rPr b="1" i="1" lang="en-US" sz="4000" spc="-1" strike="noStrike">
                <a:solidFill>
                  <a:srgbClr val="ff0000"/>
                </a:solidFill>
                <a:latin typeface="Arial Black"/>
              </a:rPr>
              <a:t>Learn</a:t>
            </a:r>
            <a:r>
              <a:rPr b="1" i="1" lang="ro-RO" sz="4000" spc="-1" strike="noStrike">
                <a:solidFill>
                  <a:srgbClr val="ff0000"/>
                </a:solidFill>
                <a:latin typeface="Arial Black"/>
              </a:rPr>
              <a:t>)</a:t>
            </a:r>
            <a:r>
              <a:rPr b="0" lang="ro-RO" sz="4000" spc="-1" strike="noStrike">
                <a:solidFill>
                  <a:srgbClr val="ff0000"/>
                </a:solidFill>
                <a:latin typeface="Arial Black"/>
              </a:rPr>
              <a:t> </a:t>
            </a:r>
            <a:endParaRPr b="0" lang="en-US" sz="4000" spc="-1" strike="noStrike">
              <a:solidFill>
                <a:srgbClr val="000000"/>
              </a:solidFill>
              <a:latin typeface="Tahoma"/>
            </a:endParaRPr>
          </a:p>
        </p:txBody>
      </p:sp>
      <p:sp>
        <p:nvSpPr>
          <p:cNvPr id="100" name="Text Box 5"/>
          <p:cNvSpPr/>
          <p:nvPr/>
        </p:nvSpPr>
        <p:spPr>
          <a:xfrm>
            <a:off x="2124000" y="4221000"/>
            <a:ext cx="54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Învăţare prin colaborare on-li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Site wiki</a:t>
            </a:r>
            <a:endParaRPr b="0" lang="en-US" sz="4400" spc="-1" strike="noStrike">
              <a:solidFill>
                <a:srgbClr val="333399"/>
              </a:solidFill>
              <a:latin typeface="Tahoma"/>
            </a:endParaRPr>
          </a:p>
        </p:txBody>
      </p:sp>
      <p:graphicFrame>
        <p:nvGraphicFramePr>
          <p:cNvPr id="102" name=""/>
          <p:cNvGraphicFramePr/>
          <p:nvPr/>
        </p:nvGraphicFramePr>
        <p:xfrm>
          <a:off x="755640" y="2273400"/>
          <a:ext cx="7772400" cy="4349520"/>
        </p:xfrm>
        <a:graphic>
          <a:graphicData uri="http://schemas.openxmlformats.org/drawingml/2006/table">
            <a:tbl>
              <a:tblPr/>
              <a:tblGrid>
                <a:gridCol w="2590920"/>
                <a:gridCol w="2590560"/>
                <a:gridCol w="2590920"/>
              </a:tblGrid>
              <a:tr h="16959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ştiu?</a:t>
                      </a:r>
                      <a:endParaRPr b="0" lang="en-US" sz="28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aş vrea să ştiu?</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am învăţat?</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5356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 prea multe.</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m se utilizeaza wiki in munca de profesor</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m poate fi utilizat in activitatile de proiectare a unor activitati didactice</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Site blog</a:t>
            </a:r>
            <a:endParaRPr b="0" lang="en-US" sz="4400" spc="-1" strike="noStrike">
              <a:solidFill>
                <a:srgbClr val="333399"/>
              </a:solidFill>
              <a:latin typeface="Tahoma"/>
            </a:endParaRPr>
          </a:p>
        </p:txBody>
      </p:sp>
      <p:graphicFrame>
        <p:nvGraphicFramePr>
          <p:cNvPr id="104" name=""/>
          <p:cNvGraphicFramePr/>
          <p:nvPr/>
        </p:nvGraphicFramePr>
        <p:xfrm>
          <a:off x="714240" y="1143000"/>
          <a:ext cx="7772400" cy="5865840"/>
        </p:xfrm>
        <a:graphic>
          <a:graphicData uri="http://schemas.openxmlformats.org/drawingml/2006/table">
            <a:tbl>
              <a:tblPr/>
              <a:tblGrid>
                <a:gridCol w="2590920"/>
                <a:gridCol w="2590920"/>
                <a:gridCol w="2590560"/>
              </a:tblGrid>
              <a:tr h="1665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ştiu?</a:t>
                      </a:r>
                      <a:endParaRPr b="0" lang="en-US" sz="28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aş vrea să ştiu?</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am învăţat?</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0840">
                <a:tc>
                  <a:txBody>
                    <a:bodyPr lIns="90000" rIns="90000" tIns="46800" bIns="46800" anchor="t">
                      <a:noAutofit/>
                    </a:bodyPr>
                    <a:p>
                      <a:pP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 este un site in care se pot posta diferite reflexii personale;este un jurnal web folosit pentru a introduce insemnari zilnice, sub forma unui jurnal online, intr-un mod simplu si dinamic ce permite si adaugarea de comentarii din partea vizitatorilor.</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ine poate avea un blog;</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m pot sa utilizez mai bine un blog pentru activitatea didactica;</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m sa imi fac propiul meu blog</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icine are ceva de spus, de aratat sau de demonstrat poate avea propriul sau blog; Ca sa aibe succes un blog trebuie sa aiba un continut original si cu update-uri cat mai frecvente pentru ca oamenii care il citesc sa se intoarca cat mai des pe blogul tau. Este greu sa faci ca oamenii sa iti citeasca insemnarile, dar si mai greu este sa-i faci sa revina.</a:t>
                      </a:r>
                      <a:br>
                        <a:rPr sz="1400"/>
                      </a:br>
                      <a:r>
                        <a:rPr b="0" lang="en-US" sz="1400" spc="-1" strike="noStrike">
                          <a:solidFill>
                            <a:srgbClr val="000000"/>
                          </a:solidFill>
                          <a:latin typeface="Tahoma"/>
                        </a:rPr>
                        <a:t> </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Site colaborare on-line</a:t>
            </a:r>
            <a:endParaRPr b="0" lang="en-US" sz="4400" spc="-1" strike="noStrike">
              <a:solidFill>
                <a:srgbClr val="333399"/>
              </a:solidFill>
              <a:latin typeface="Tahoma"/>
            </a:endParaRPr>
          </a:p>
        </p:txBody>
      </p:sp>
      <p:graphicFrame>
        <p:nvGraphicFramePr>
          <p:cNvPr id="106" name=""/>
          <p:cNvGraphicFramePr/>
          <p:nvPr/>
        </p:nvGraphicFramePr>
        <p:xfrm>
          <a:off x="755640" y="2338560"/>
          <a:ext cx="7772400" cy="5051160"/>
        </p:xfrm>
        <a:graphic>
          <a:graphicData uri="http://schemas.openxmlformats.org/drawingml/2006/table">
            <a:tbl>
              <a:tblPr/>
              <a:tblGrid>
                <a:gridCol w="2590920"/>
                <a:gridCol w="2590560"/>
                <a:gridCol w="2590920"/>
              </a:tblGrid>
              <a:tr h="1333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ştiu?</a:t>
                      </a:r>
                      <a:endParaRPr b="0" lang="en-US" sz="28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aş vrea să ştiu?</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am învăţat?</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1736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 pre multe;</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m poate fi utilizat un site de colaborare in actvitatea didactica</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ahoma"/>
                        </a:rPr>
                        <a:t>Integrarea resurselor de pe Internet în unitatea de învăţare pentru a sprijini documentarea, comunicarea, colaborarea, rezolvarea de probleme, şi/sau alte competenţe necesare în secolul XXI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2:27:15Z</dcterms:created>
  <dc:creator>Adriana</dc:creator>
  <dc:description/>
  <dc:language>en-US</dc:language>
  <cp:lastModifiedBy>user</cp:lastModifiedBy>
  <dcterms:modified xsi:type="dcterms:W3CDTF">2010-12-07T18:23:55Z</dcterms:modified>
  <cp:revision>5</cp:revision>
  <dc:subject/>
  <dc:title>Compuşi hidroxilici</dc:title>
</cp:coreProperties>
</file>